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2.jpeg" ContentType="image/jpeg"/>
  <Override PartName="/ppt/media/image39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32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525000" cy="7621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E619-9D50-453F-9F13-62D7B81F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F997-D577-4840-BF76-91A5702E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D326-F5DE-4A9A-BAAC-BC687EF9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321F-ED1C-4052-9573-4728F496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C812-E7EC-41F9-BAFB-F32065C0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CD54-1E9C-4F76-94D5-55FC3E20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85AC-A716-4F3F-A586-2464F3E8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57EF-FB4E-4F8A-9706-F48C898D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7795-A29F-48B0-A97F-83DD631F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7376-2317-4B25-A4FB-7323BB69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8BEF-460C-44D4-9279-82ABC74B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50B5-14B6-4799-A986-5208FE79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47F0-963A-4352-A239-68B3BA53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2A4D-DFF5-4B38-8946-F9D18E74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DBAF-C30B-4A68-A484-77C9E3F1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BEC7-0FCB-4E92-A032-BE1F6356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6E44-98FC-4D95-B29F-8FF86BCF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B2BC1-E4D9-4004-A2EA-602DA0D1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1514B-BAD4-41EA-B335-98FCD3FD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799A1-571E-4EC7-A686-D47E3E18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40E61-AD7E-4AAB-BB7E-90EE5759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13AE1-B6F2-4EFF-BF80-DA96C6DD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28D9-B1A0-4887-BD2E-F3EBC06B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802D8-343D-447E-B66E-76A26224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BBC56-97EC-4D2E-B4E3-59BCCDBE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5E8C0-446F-4AEF-B2E7-23C2284B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6F1F6-020B-4979-A221-2E7FA972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6E644-5001-4B65-AA04-7311D659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C779E-7A54-4031-8C83-AB909275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09DD2-B1ED-4832-B6DD-C773BB22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0D2FB-CFDE-45CA-BE40-76243EE6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A4092-E378-4908-A3F5-38F418FB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1CAE9-DDCC-4E94-B784-FB793E6B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CEC-AE92-4518-918B-C6677789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8D919-988D-461E-BF83-B8941EE9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F6A06-8264-4917-9653-DB1BC5D0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E172D-4657-4CD3-BDAE-783A65D5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26D39-1018-48C6-96AB-D8CC3CD0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3A9B4-38B8-4034-80D4-628C1CCE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10B48-F34D-4121-8E82-58D2D1B5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5C7BD-D518-44D6-B3D8-4E323523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AE6B9-DF48-40CE-BB8C-8317919A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459AD-26D6-423C-877C-6F25230A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303E0-9467-42F5-A090-4839CC5A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182-2E8D-47C5-ADE2-2D84291A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4B53C-ADCC-4152-B8CC-BED0D27A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85C2B-04EE-4CE1-9369-285E7092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0DB37-DAC0-4DA0-9194-28E30554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70035-A9C2-4458-9E95-1035BE0D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A92EB-EFB4-4733-B055-32FC674F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963ED-9D5C-4F03-A6CF-FA511ED3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FF033-4302-46EF-A6B0-239B31BE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DB019-21E2-4764-8F3C-765A2702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A5999-C3CB-408C-8149-51020297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CCC2B-4C41-471E-A68A-26F9D6C0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159F-BC10-4F00-A292-BE876DEB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92669-29F0-4AE1-B6AE-7042D45F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A5C8B-D2E0-471B-B821-17271D50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53601-C60A-4F59-8002-91439507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60337-4A2C-4FEA-A13A-E510022B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94253-074B-486F-A1D5-365938F8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6E535-EB63-4214-B91B-11E02155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75E7A-D348-44BD-B77C-34124C43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E5CF1-B0D6-4B64-978C-E26D988D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28FE1-C6F2-4048-A1B3-6FFE3B32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EA4A1-F74D-4B98-9C30-04AFF352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B4EF-AAF1-4875-AEE0-07F67F50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89966-1542-4A8F-BC09-2CCFEFDC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10553-9B96-4C24-B36D-E8E0FA44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2FB7D-9560-40DB-BF9E-BBAECFD8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C67F4-6B01-4CEA-8B13-ADE1BC40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743DA-CC3E-4453-9690-AD4B74D7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2ADE6-BB53-4EBC-A492-87CA4AAF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BF6DC-FDA3-4F17-AD61-BCE8A153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C3DD5-83D2-4702-9CB3-2C7D7B5E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4C00F-1CFF-40C0-A037-DB812659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E4D18-6AE3-4D01-9CB8-8802F8F8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E78-3E9F-4176-B7F6-FBD33536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1A4A6-DF7E-40DD-AEAF-44CCC4ED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58F33-1A0A-47AC-9346-304F75E3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B7177-080C-497E-BF61-EE711652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D8D31-436E-437D-820C-D58F3844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E0288-F3D8-4263-B929-828DB3D5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2752-6E3D-4ECD-BFF6-700BF9E0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991040" y="720252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5920" y="7202520"/>
            <a:ext cx="44370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8A73-4881-42F6-9F37-ECA9F5B2BEBB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802280" y="588276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428480" y="6679800"/>
            <a:ext cx="6032520" cy="405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428480" y="6276600"/>
            <a:ext cx="6032520" cy="406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740440" y="6392880"/>
            <a:ext cx="523800" cy="404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93F0-EFA1-4AC7-8023-EEA252279863}" type="slidenum"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991040" y="720108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75920" y="7202520"/>
            <a:ext cx="44370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1E73-DFD9-4490-9774-D849C43F05CC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540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802280" y="38772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738480" y="1080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12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7246800" y="7196040"/>
            <a:ext cx="2222640" cy="3398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728800" y="7202520"/>
            <a:ext cx="4438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802360" y="900000"/>
            <a:ext cx="523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07F0-5F3A-4F9D-A219-31C9DCA196E4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990680" y="7202520"/>
            <a:ext cx="22194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76280" y="7202520"/>
            <a:ext cx="44388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905600" y="7203600"/>
            <a:ext cx="524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917E-6C00-483D-A13B-C132D4CB62AD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540480" y="7284600"/>
            <a:ext cx="22226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82240" y="7284600"/>
            <a:ext cx="535788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60960" y="7284600"/>
            <a:ext cx="52380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FBF6-C17A-47EF-B8DD-1B4E12A88F42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362280" y="7284600"/>
            <a:ext cx="2189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219320" y="7286760"/>
            <a:ext cx="515448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59360" y="7284600"/>
            <a:ext cx="3812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E141-1B6C-4EB6-B0E8-B7378E258B9C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76280" y="1947960"/>
            <a:ext cx="8572320" cy="48592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Dirección Nacional de Aeronáutica Civil – DINAC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INFORME DE COMITÉ FAL AEROPUERTO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LIC. VICTOR VELAZQUEZ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26-07-201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2" name="3 Imagen" descr="bandera.png"/>
          <p:cNvPicPr/>
          <p:nvPr/>
        </p:nvPicPr>
        <p:blipFill>
          <a:blip r:embed="rId1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3" name="5 Imagen" descr="logo_resto.jpg"/>
          <p:cNvPicPr/>
          <p:nvPr/>
        </p:nvPicPr>
        <p:blipFill>
          <a:blip r:embed="rId2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http://www.dinac.gov.py/v2/media/k2/items/cache/71601b6fd7fc74a9f4eea8e6c1b43d35_XL.jpg"/>
          <p:cNvPicPr/>
          <p:nvPr/>
        </p:nvPicPr>
        <p:blipFill>
          <a:blip r:embed="rId3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815320" cy="1749600"/>
          </a:xfrm>
          <a:prstGeom prst="rect">
            <a:avLst/>
          </a:prstGeom>
          <a:ln w="0">
            <a:noFill/>
          </a:ln>
        </p:spPr>
      </p:pic>
      <p:sp>
        <p:nvSpPr>
          <p:cNvPr id="420" name="1 Título"/>
          <p:cNvSpPr/>
          <p:nvPr/>
        </p:nvSpPr>
        <p:spPr>
          <a:xfrm>
            <a:off x="5119560" y="5238720"/>
            <a:ext cx="401796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1100" spc="-1" strike="noStrike">
                <a:solidFill>
                  <a:srgbClr val="000000"/>
                </a:solidFill>
                <a:latin typeface="Arial"/>
                <a:ea typeface="Arial"/>
              </a:rPr>
              <a:t>SE CONTRATO LOS SERVICIOS DE CONSULTORIA PARA LA CERTIFICACION ISO 9001/2008, DE LOS SERVICIOS AEROPORTUARIOS DEL AISP, EN TOTAL 15 PROCESOS RELACIONADOS A LA ATENCION DE PASAJEROS Y A LA SEGURIDAD OPERACIONAL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600"/>
            </a:b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Picture 5" descr="C:\Users\Usuario\Documents\ESCAN ISO.jpg"/>
          <p:cNvPicPr/>
          <p:nvPr/>
        </p:nvPicPr>
        <p:blipFill>
          <a:blip r:embed="rId2"/>
          <a:stretch/>
        </p:blipFill>
        <p:spPr>
          <a:xfrm rot="21184800">
            <a:off x="604800" y="1793880"/>
            <a:ext cx="4621320" cy="2414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Users\Usuario\AppData\Local\Microsoft\Windows\Temporary Internet Files\Low\Content.IE5\18YWFR88\IMG-20140106-WA0002[1].jpg"/>
          <p:cNvPicPr/>
          <p:nvPr/>
        </p:nvPicPr>
        <p:blipFill>
          <a:blip r:embed="rId3"/>
          <a:stretch/>
        </p:blipFill>
        <p:spPr>
          <a:xfrm>
            <a:off x="619200" y="45957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C:\Users\Usuario\AppData\Local\Microsoft\Windows\Temporary Internet Files\Low\Content.IE5\QUDQGEZE\IMG-20140106-WA0001[1].jpg"/>
          <p:cNvPicPr/>
          <p:nvPr/>
        </p:nvPicPr>
        <p:blipFill>
          <a:blip r:embed="rId4"/>
          <a:stretch/>
        </p:blipFill>
        <p:spPr>
          <a:xfrm>
            <a:off x="5119560" y="1666800"/>
            <a:ext cx="417204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3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12920" y="2770200"/>
            <a:ext cx="5024160" cy="36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Tahoma"/>
              </a:rPr>
              <a:t>PRESENTACIÓN DEL RESULTADO DE ENCUESTAS REALIZADAS EN EL AISP 2016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000" spc="-1" strike="noStrike">
                <a:solidFill>
                  <a:srgbClr val="000000"/>
                </a:solidFill>
                <a:latin typeface="Tahoma"/>
              </a:rPr>
              <a:t>LICITACIÓN POR CONCURSO DE OFERTAS N° 29/201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ormulario de Encuesta utilizado FL-SGC-10 V00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Periodo: 11 de Enero y el 28 de Enero del 2016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ueron encuestadas 510 personas y respondienron 315 persona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Encuestas realizadas de manera personalizad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Las encuestas se realizaron en diferentes Horarios (Madrugada,Mañana, Tarde, Noche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Muestras tomadas en el área  de estacionamiento,  embarque y desembarque, área restringida y pública, pasajeros y acompañante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3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5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7" name="6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Título" descr=""/>
          <p:cNvPicPr/>
          <p:nvPr/>
        </p:nvPicPr>
        <p:blipFill>
          <a:blip r:embed="rId1"/>
          <a:stretch/>
        </p:blipFill>
        <p:spPr>
          <a:xfrm>
            <a:off x="139680" y="6132600"/>
            <a:ext cx="6346800" cy="1116000"/>
          </a:xfrm>
          <a:prstGeom prst="rect">
            <a:avLst/>
          </a:prstGeom>
          <a:ln w="0">
            <a:noFill/>
          </a:ln>
        </p:spPr>
      </p:pic>
      <p:pic>
        <p:nvPicPr>
          <p:cNvPr id="439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1 Título"/>
          <p:cNvSpPr/>
          <p:nvPr/>
        </p:nvSpPr>
        <p:spPr>
          <a:xfrm>
            <a:off x="262080" y="6130800"/>
            <a:ext cx="62262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7f7f7f"/>
                </a:solidFill>
                <a:latin typeface="Tahoma"/>
              </a:rPr>
              <a:t>CHECK IN COMPAÑÍA AÉRE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1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3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1 Título" descr=""/>
          <p:cNvPicPr/>
          <p:nvPr/>
        </p:nvPicPr>
        <p:blipFill>
          <a:blip r:embed="rId1"/>
          <a:stretch/>
        </p:blipFill>
        <p:spPr>
          <a:xfrm>
            <a:off x="444600" y="1359000"/>
            <a:ext cx="8570880" cy="1555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369720" y="2945880"/>
            <a:ext cx="8823600" cy="3816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9000"/>
          </a:bodyPr>
          <a:p>
            <a:pPr lvl="1" marL="917640" indent="-452520">
              <a:spcBef>
                <a:spcPts val="499"/>
              </a:spcBef>
              <a:buClr>
                <a:srgbClr val="ffffff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Reuniones en Aeropuertos Internacional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ére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ncuesta de satisfacción:  Sistema de Gestión de calidad ISO 9001:2008 –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uditoria OACI -  5-13 de setiembre/16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sistencia de victimas de accidentes de Aviación y a sus familiares  - Anexo 12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grama FAL del Aeropuerto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917640" indent="-452520">
              <a:spcBef>
                <a:spcPts val="451"/>
              </a:spcBef>
              <a:buClr>
                <a:srgbClr val="ffffff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3 Imagen" descr="bandera.png"/>
          <p:cNvPicPr/>
          <p:nvPr/>
        </p:nvPicPr>
        <p:blipFill>
          <a:blip r:embed="rId2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8" name="5 Imagen" descr="logo_resto.jpg"/>
          <p:cNvPicPr/>
          <p:nvPr/>
        </p:nvPicPr>
        <p:blipFill>
          <a:blip r:embed="rId3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ttp://www.dinac.gov.py/v2/media/k2/items/cache/71601b6fd7fc74a9f4eea8e6c1b43d35_XL.jpg"/>
          <p:cNvPicPr/>
          <p:nvPr/>
        </p:nvPicPr>
        <p:blipFill>
          <a:blip r:embed="rId4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5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7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9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1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  <p:sp>
        <p:nvSpPr>
          <p:cNvPr id="453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1 Título" descr=""/>
          <p:cNvPicPr/>
          <p:nvPr/>
        </p:nvPicPr>
        <p:blipFill>
          <a:blip r:embed="rId1"/>
          <a:stretch/>
        </p:blipFill>
        <p:spPr>
          <a:xfrm>
            <a:off x="-189000" y="6046920"/>
            <a:ext cx="6450120" cy="1274760"/>
          </a:xfrm>
          <a:prstGeom prst="rect">
            <a:avLst/>
          </a:prstGeom>
          <a:ln w="0">
            <a:noFill/>
          </a:ln>
        </p:spPr>
      </p:pic>
      <p:pic>
        <p:nvPicPr>
          <p:cNvPr id="455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512640" y="5608800"/>
            <a:ext cx="8575920" cy="1554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F:\foto  aerea Drone\P1050572.JPG"/>
          <p:cNvPicPr/>
          <p:nvPr/>
        </p:nvPicPr>
        <p:blipFill>
          <a:blip r:embed="rId2"/>
          <a:stretch/>
        </p:blipFill>
        <p:spPr>
          <a:xfrm>
            <a:off x="0" y="209520"/>
            <a:ext cx="9524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1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3" name="Picture 3" descr="D:\celular 2015\07-vie-01-cp--700x559.jpeg"/>
          <p:cNvPicPr/>
          <p:nvPr/>
        </p:nvPicPr>
        <p:blipFill>
          <a:blip r:embed="rId2"/>
          <a:stretch/>
        </p:blipFill>
        <p:spPr>
          <a:xfrm>
            <a:off x="1008000" y="714240"/>
            <a:ext cx="8502840" cy="6788160"/>
          </a:xfrm>
          <a:prstGeom prst="rect">
            <a:avLst/>
          </a:prstGeom>
          <a:ln w="0">
            <a:noFill/>
          </a:ln>
        </p:spPr>
      </p:pic>
      <p:sp>
        <p:nvSpPr>
          <p:cNvPr id="324" name="1 Título"/>
          <p:cNvSpPr/>
          <p:nvPr/>
        </p:nvSpPr>
        <p:spPr>
          <a:xfrm>
            <a:off x="1041480" y="6396120"/>
            <a:ext cx="85010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sde diciembre, después de 21 años, Paraguay tiene vuelos directos a Europa, con 2 frecuencias semanales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7" descr="C:\Users\vvelazquez\AppData\Local\Microsoft\Windows\Temporary Internet Files\Content.IE5\CDT6OTXG\el-primer-vuelo-de-air-europa-entre-espana-y-paraguay-fue-recibido-esta-manana-_860_573_1314386.jpeg"/>
          <p:cNvPicPr/>
          <p:nvPr/>
        </p:nvPicPr>
        <p:blipFill>
          <a:blip r:embed="rId1"/>
          <a:stretch/>
        </p:blipFill>
        <p:spPr>
          <a:xfrm>
            <a:off x="990720" y="985680"/>
            <a:ext cx="8369280" cy="5948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2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 – AIR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17" descr="C:\Users\VVELAZ~1\AppData\Local\Temp\Rar$DI00.461\Resolucion 1362.jpg"/>
          <p:cNvPicPr/>
          <p:nvPr/>
        </p:nvPicPr>
        <p:blipFill>
          <a:blip r:embed="rId3"/>
          <a:stretch/>
        </p:blipFill>
        <p:spPr>
          <a:xfrm>
            <a:off x="990720" y="5816520"/>
            <a:ext cx="45799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4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ONECTIVIDAD A CIUDAD DEL ES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3" descr="D:\celular 2015\IMG-20150824-WA0088.jpg"/>
          <p:cNvPicPr/>
          <p:nvPr/>
        </p:nvPicPr>
        <p:blipFill>
          <a:blip r:embed="rId2"/>
          <a:stretch/>
        </p:blipFill>
        <p:spPr>
          <a:xfrm>
            <a:off x="1041480" y="1987560"/>
            <a:ext cx="8205840" cy="3801960"/>
          </a:xfrm>
          <a:prstGeom prst="rect">
            <a:avLst/>
          </a:prstGeom>
          <a:ln w="0">
            <a:noFill/>
          </a:ln>
        </p:spPr>
      </p:pic>
      <p:sp>
        <p:nvSpPr>
          <p:cNvPr id="354" name="1 Título"/>
          <p:cNvSpPr/>
          <p:nvPr/>
        </p:nvSpPr>
        <p:spPr>
          <a:xfrm>
            <a:off x="1041480" y="5792760"/>
            <a:ext cx="820584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Desde setiembre, Amaszonas Paraguay, realiza 2 vuelos diarios a Ciudad del Este, mejorando la conectividad aérea en nuestro país. Los pasajeros se benefician en el ahorro del tiempo de viaje, seguridad y costos competitivos.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7" descr="C:\Users\vvelazquez\AppData\Local\Microsoft\Windows\Temporary Internet Files\Content.IE5\CDT6OTXG\Scan_Pic0001.jpg"/>
          <p:cNvPicPr/>
          <p:nvPr/>
        </p:nvPicPr>
        <p:blipFill>
          <a:blip r:embed="rId1"/>
          <a:stretch/>
        </p:blipFill>
        <p:spPr>
          <a:xfrm rot="21063600">
            <a:off x="1146240" y="4511520"/>
            <a:ext cx="4084560" cy="1852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5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Inicio de vue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2" descr="https://s3-sa-east-1.amazonaws.com/assets.abc.com.py/2016/01/07/una-de-las-aeronaves-de-sol-del-paraguay-_867_573_1321926.jpg"/>
          <p:cNvPicPr/>
          <p:nvPr/>
        </p:nvPicPr>
        <p:blipFill>
          <a:blip r:embed="rId3"/>
          <a:stretch/>
        </p:blipFill>
        <p:spPr>
          <a:xfrm>
            <a:off x="2270160" y="920880"/>
            <a:ext cx="4456080" cy="3139920"/>
          </a:xfrm>
          <a:prstGeom prst="rect">
            <a:avLst/>
          </a:prstGeom>
          <a:ln w="0">
            <a:noFill/>
          </a:ln>
        </p:spPr>
      </p:pic>
      <p:sp>
        <p:nvSpPr>
          <p:cNvPr id="370" name="1 CuadroTexto"/>
          <p:cNvSpPr/>
          <p:nvPr/>
        </p:nvSpPr>
        <p:spPr>
          <a:xfrm>
            <a:off x="1041480" y="6689880"/>
            <a:ext cx="80960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Partiendo desde el Aeropuerto Silvio Pettirossi,  a partir del 13 de enero con una capacidad para 12 pasajeros, más dos pilotos con destino a la ciudad de Encarnación y desde febrero a Pedro Juan Caballero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4" descr="C:\Users\vvelazquez\AppData\Local\Microsoft\Windows\Temporary Internet Files\Content.IE5\6ROQAQMJ\RESOLUCION Nº 15-2016.jpg"/>
          <p:cNvPicPr/>
          <p:nvPr/>
        </p:nvPicPr>
        <p:blipFill>
          <a:blip r:embed="rId4"/>
          <a:stretch/>
        </p:blipFill>
        <p:spPr>
          <a:xfrm rot="21043800">
            <a:off x="5498640" y="4211640"/>
            <a:ext cx="3903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73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vuelo inaug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1 CuadroTexto"/>
          <p:cNvSpPr/>
          <p:nvPr/>
        </p:nvSpPr>
        <p:spPr>
          <a:xfrm>
            <a:off x="1190520" y="7037280"/>
            <a:ext cx="8096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Vuelo inaugural Asunción – Encarnación – Asunción – realizado el 12 de enero de 2016,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2" descr="C:\Users\vvelazquez\AppData\Local\Microsoft\Windows\Temporary Internet Files\Content.IE5\PWUB810O\el-brindis-de-rigor_863_573_1323629.jpeg"/>
          <p:cNvPicPr/>
          <p:nvPr/>
        </p:nvPicPr>
        <p:blipFill>
          <a:blip r:embed="rId2"/>
          <a:stretch/>
        </p:blipFill>
        <p:spPr>
          <a:xfrm>
            <a:off x="1636560" y="952560"/>
            <a:ext cx="4235760" cy="2998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aga clic en Opciones"/>
          <p:cNvPicPr/>
          <p:nvPr/>
        </p:nvPicPr>
        <p:blipFill>
          <a:blip r:embed="rId3"/>
          <a:stretch/>
        </p:blipFill>
        <p:spPr>
          <a:xfrm>
            <a:off x="4762440" y="3968640"/>
            <a:ext cx="42418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89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19 CuadroTexto"/>
          <p:cNvSpPr/>
          <p:nvPr/>
        </p:nvSpPr>
        <p:spPr>
          <a:xfrm>
            <a:off x="1243080" y="5465880"/>
            <a:ext cx="82818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ño 2016 – AISP 2 reun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ealización del 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Picture 20" descr="C:\Users\Usuario\AppData\Local\Microsoft\Windows\Temporary Internet Files\Content.IE5\FT3POMAW\FB_IMG_1464554241249.jpg"/>
          <p:cNvPicPr/>
          <p:nvPr/>
        </p:nvPicPr>
        <p:blipFill>
          <a:blip r:embed="rId2"/>
          <a:stretch/>
        </p:blipFill>
        <p:spPr>
          <a:xfrm>
            <a:off x="4079880" y="2657520"/>
            <a:ext cx="5445000" cy="3063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9" descr="C:\Users\Usuario\AppData\Local\Microsoft\Windows\Temporary Internet Files\Content.IE5\48GUUSPK\FB_IMG_1464554253751.jpg"/>
          <p:cNvPicPr/>
          <p:nvPr/>
        </p:nvPicPr>
        <p:blipFill>
          <a:blip r:embed="rId3"/>
          <a:stretch/>
        </p:blipFill>
        <p:spPr>
          <a:xfrm>
            <a:off x="946080" y="857160"/>
            <a:ext cx="4437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405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19 CuadroTexto"/>
          <p:cNvSpPr/>
          <p:nvPr/>
        </p:nvSpPr>
        <p:spPr>
          <a:xfrm>
            <a:off x="1017720" y="5249880"/>
            <a:ext cx="828180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uditoria OACI – Fecha  5-13 de setiembre/16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grama de Asistencia de victimas de accidentes de Aviación y a sus familia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del Programa FAL del Aeropuerto AIS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8" name="Picture 18" descr="C:\Users\Usuario\AppData\Local\Microsoft\Windows\Temporary Internet Files\Content.IE5\NV7QA57M\FB_IMG_1464554268984.jpg"/>
          <p:cNvPicPr/>
          <p:nvPr/>
        </p:nvPicPr>
        <p:blipFill>
          <a:blip r:embed="rId2"/>
          <a:stretch/>
        </p:blipFill>
        <p:spPr>
          <a:xfrm>
            <a:off x="1090440" y="1001880"/>
            <a:ext cx="79441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0:20Z</dcterms:created>
  <dc:creator>Margaret Kennedy</dc:creator>
  <dc:description/>
  <dc:language>en-US</dc:language>
  <cp:lastModifiedBy>Victor Velazquez</cp:lastModifiedBy>
  <cp:lastPrinted>2014-08-04T16:47:21Z</cp:lastPrinted>
  <dcterms:modified xsi:type="dcterms:W3CDTF">2016-07-26T11:19:28Z</dcterms:modified>
  <cp:revision>787</cp:revision>
  <dc:subject/>
  <dc:title>SNRE Proyecto SPR</dc:title>
</cp:coreProperties>
</file>